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C59C-E405-474A-AE7C-82BDB5E47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EB82-1D74-4331-B7A8-63142A6D6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4E46-5FA4-4FAF-B66C-6086466E4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38CF-CB99-42DE-902A-D763CFF02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D6FC7-C6E5-494C-9ED6-AEE99FD0F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0DE50-8D7C-46F1-B8B2-F655732E2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0119A-AF53-4FA4-AED6-CEC194540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67611-81F3-4FBA-8519-C2C2C9817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DA0B7-A95B-45E3-A7BE-79E584550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A9FB7-0210-45DB-AB43-798350B67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D7787-F0B5-4B89-96C8-5FDCCD44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5A72-89C8-46AA-B3C6-0145CA9CC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6FE03-D56A-4EDF-B7DB-F4AEE800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3D8F1-A3E9-4DF8-AA06-926C58C4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B4CBB-1191-4078-9A6C-19504DE93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3B4FB-7655-415B-BFF5-457A0D41B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5C353-E265-45BD-BFC1-6B00AF52B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B5BF-53B8-4417-82BC-6DCA0C0C3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E632-83D2-4839-B7DF-263E65AEB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2E94-3867-46E4-AFA4-8377EA60B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4FDD-58E6-4B0B-85A6-F4DC803E8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B323-FA90-4803-94E0-B7B2273C9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7A99-A78B-44EF-A010-60E6EE36A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7EFA-C002-4879-A367-801E96D1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b1bcb4"/>
              </a:gs>
              <a:gs pos="100000">
                <a:srgbClr val="cbd7c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a3bba9"/>
                </a:gs>
                <a:gs pos="100000">
                  <a:srgbClr val="cbd7c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7c2b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c3cfc6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ec9c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bb5a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1bcb4"/>
                  </a:gs>
                  <a:gs pos="100000">
                    <a:srgbClr val="cbd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bec9c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b1bcb4"/>
                  </a:gs>
                  <a:gs pos="100000">
                    <a:srgbClr val="cbd7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7c2b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b1bcb4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bec9c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b1bcb4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bb5ad"/>
                  </a:gs>
                  <a:gs pos="100000">
                    <a:srgbClr val="cbd7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5afa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bec9c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c3cfc6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3bba9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3bba9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3bba9"/>
                    </a:gs>
                    <a:gs pos="100000">
                      <a:srgbClr val="cbd7c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d7ce"/>
                    </a:gs>
                    <a:gs pos="100000">
                      <a:srgbClr val="a3bb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3bba9"/>
                    </a:gs>
                    <a:gs pos="100000">
                      <a:srgbClr val="cbd7c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d7ce"/>
                    </a:gs>
                    <a:gs pos="100000">
                      <a:srgbClr val="a3bb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d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7d8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bd7c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CEA07-F8DF-4710-93D8-89B4AB9A504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a3bba9"/>
                </a:gs>
                <a:gs pos="100000">
                  <a:srgbClr val="cbd7c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7c2b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c3cfc6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ec9c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bb5a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1bcb4"/>
                  </a:gs>
                  <a:gs pos="100000">
                    <a:srgbClr val="cbd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bec9c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b1bcb4"/>
                  </a:gs>
                  <a:gs pos="100000">
                    <a:srgbClr val="cbd7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7c2b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b1bcb4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bec9c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b1bcb4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bb5ad"/>
                  </a:gs>
                  <a:gs pos="100000">
                    <a:srgbClr val="cbd7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5afa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bec9c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c3cfc6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3bba9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3bba9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3bba9"/>
                    </a:gs>
                    <a:gs pos="100000">
                      <a:srgbClr val="cbd7c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d7ce"/>
                    </a:gs>
                    <a:gs pos="100000">
                      <a:srgbClr val="a3bb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3bba9"/>
                    </a:gs>
                    <a:gs pos="100000">
                      <a:srgbClr val="cbd7c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d7ce"/>
                    </a:gs>
                    <a:gs pos="100000">
                      <a:srgbClr val="a3bb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7d8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B3C7E-895D-4E9A-8244-ACBC165765F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d80"/>
                </a:solidFill>
                <a:latin typeface="Arial"/>
              </a:rPr>
              <a:t>Me llamo ___________         Clase 6 NH</a:t>
            </a:r>
            <a:br>
              <a:rPr sz="3600"/>
            </a:br>
            <a:r>
              <a:rPr b="0" lang="en-US" sz="3600" spc="-1" strike="noStrike">
                <a:solidFill>
                  <a:srgbClr val="007d80"/>
                </a:solidFill>
                <a:latin typeface="Arial"/>
              </a:rPr>
              <a:t>La fecha es el 28 de noviembre del 2011</a:t>
            </a:r>
            <a:endParaRPr b="0" lang="en-US" sz="36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00"/>
                </a:solidFill>
                <a:latin typeface="Arial"/>
              </a:rPr>
              <a:t>Propósito # 23: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¿Qué es la frase y la oració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00"/>
                </a:solidFill>
                <a:latin typeface="Arial"/>
              </a:rPr>
              <a:t>Actividad Inicial: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Indica si el sustantivo es </a:t>
            </a:r>
            <a:r>
              <a:rPr b="0" lang="es-ES_tradnl" sz="2800" spc="-1" strike="noStrike">
                <a:solidFill>
                  <a:srgbClr val="cc0099"/>
                </a:solidFill>
                <a:latin typeface="Arial"/>
              </a:rPr>
              <a:t>Común o Propio,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divide en silaba,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Arial"/>
              </a:rPr>
              <a:t>clasifica según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Arial"/>
              </a:rPr>
              <a:t>numero de silaba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s-ES_tradnl" sz="2800" spc="-1" strike="noStrike">
                <a:solidFill>
                  <a:srgbClr val="808000"/>
                </a:solidFill>
                <a:latin typeface="Arial"/>
              </a:rPr>
              <a:t>encierra la silaba que tiene el acento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0" lang="es-ES_tradnl" sz="2800" spc="-1" strike="noStrike">
                <a:solidFill>
                  <a:srgbClr val="ff9900"/>
                </a:solidFill>
                <a:latin typeface="Arial"/>
              </a:rPr>
              <a:t>clasifica según el acen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inosaurio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9900"/>
                </a:solidFill>
                <a:latin typeface="Arial"/>
              </a:rPr>
              <a:t>7.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Cabell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alifornia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9900"/>
                </a:solidFill>
                <a:latin typeface="Arial"/>
              </a:rPr>
              <a:t>8.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Policí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Isabela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9900"/>
                </a:solidFill>
                <a:latin typeface="Arial"/>
              </a:rPr>
              <a:t>9.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Martí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rofesor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9900"/>
                </a:solidFill>
                <a:latin typeface="Arial"/>
              </a:rPr>
              <a:t>10.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Españ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elfín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9900"/>
                </a:solidFill>
                <a:latin typeface="Arial"/>
              </a:rPr>
              <a:t>11.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Estrell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Francisco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9900"/>
                </a:solidFill>
                <a:latin typeface="Arial"/>
              </a:rPr>
              <a:t>12.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India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La frase</a:t>
            </a: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1" lang="es-ES" sz="3200" spc="-1" strike="noStrike">
                <a:solidFill>
                  <a:srgbClr val="808000"/>
                </a:solidFill>
                <a:latin typeface="Arial"/>
              </a:rPr>
              <a:t>frase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es un grupo de palabras que tiene sentido pero NO comple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99"/>
                </a:solidFill>
                <a:latin typeface="Times New Roman"/>
              </a:rPr>
              <a:t>Por ejemplo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d8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Bella can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d8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La casa de muñe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d8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Del primero al últim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d8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El error del estudia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d8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Max, el ga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9900"/>
                </a:solidFill>
                <a:latin typeface="Arial"/>
              </a:rPr>
              <a:t>La oración</a:t>
            </a: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Una </a:t>
            </a:r>
            <a:r>
              <a:rPr b="1" lang="es-ES_tradnl" sz="2800" spc="-1" strike="noStrike">
                <a:solidFill>
                  <a:srgbClr val="cc0099"/>
                </a:solidFill>
                <a:latin typeface="Arial"/>
              </a:rPr>
              <a:t>oración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es un grupo de palabras que expresa una idea con sentido comple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La oración siempre empieza con mayúscul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uede ser </a:t>
            </a:r>
            <a:r>
              <a:rPr b="0" lang="es-ES_tradnl" sz="2800" spc="-1" strike="noStrike" u="sng">
                <a:solidFill>
                  <a:srgbClr val="0000ff"/>
                </a:solidFill>
                <a:uFillTx/>
                <a:latin typeface="Arial"/>
              </a:rPr>
              <a:t>afirmativa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o </a:t>
            </a:r>
            <a:r>
              <a:rPr b="0" lang="es-ES_tradnl" sz="2800" spc="-1" strike="noStrike" u="sng">
                <a:solidFill>
                  <a:srgbClr val="ff3300"/>
                </a:solidFill>
                <a:uFillTx/>
                <a:latin typeface="Arial"/>
              </a:rPr>
              <a:t>negati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9999"/>
                </a:solidFill>
                <a:latin typeface="Times New Roman"/>
              </a:rPr>
              <a:t>Por ejemplo:</a:t>
            </a:r>
            <a:r>
              <a:rPr b="0" lang="es-ES_tradnl" sz="2800" spc="-1" strike="noStrike">
                <a:solidFill>
                  <a:srgbClr val="0099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7d8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María trabaja de noche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7d8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Jorge no trabaja de noch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7d8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Yo ayudo a mi mad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7d8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Mi hermana no hace na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7d8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Hoy es miérco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7d8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No, hoy es lu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Tarea # 23</a:t>
            </a: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99"/>
                </a:solidFill>
                <a:latin typeface="Arial"/>
              </a:rPr>
              <a:t>Usando las palabras de la actividad inicial, escribe una oración con cada palabra (12 tota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7T21:38:49Z</dcterms:created>
  <dc:creator>Helen Zumaeta</dc:creator>
  <dc:description/>
  <dc:language>en-US</dc:language>
  <cp:lastModifiedBy>Helen Zumaeta</cp:lastModifiedBy>
  <dcterms:modified xsi:type="dcterms:W3CDTF">2011-11-28T15:07:03Z</dcterms:modified>
  <cp:revision>5</cp:revision>
  <dc:subject/>
  <dc:title>Me llamo ___________         Clase 6 NH La fecha es el 28 de noviembre del 2011</dc:title>
</cp:coreProperties>
</file>